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CC1-C5DA-49C0-BC61-35C03B0B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C287-3F53-4E0B-B8CA-5DD0E1F67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111B-1561-4C6C-B3AA-0A5B2591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D81E-30D8-408C-A1F7-F0FD0A5B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E030-085E-4AEB-9A5A-27305987F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BC560-CE6B-4A84-A3EA-6513E39BC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C888-9CF8-4224-B0C7-7B201D258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546A-7AFF-4808-8BA9-5E62F09D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7F87-CE61-4D31-93E6-4C09F9E0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CB004-E7BE-4567-9110-F2B1BC84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C085-A031-454A-BAAA-E17AD6B64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BE62-493A-4B7C-A8D9-E419FBDA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0E626-9F55-4D2C-9FAB-5DD71250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EC5C4-D774-4360-BAFE-CCC4276D8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195C2-A276-429D-B361-5224FC5A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E1F05-84D7-47D8-B97C-719DA8D75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D78A-8D7A-4C85-80C9-116C4B747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D904-A9EB-4DB9-A291-3BCA8DA06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7A2-B445-4155-A0C3-99CD36750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717C-E606-418D-8497-47F7E9A01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8160" cy="527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A96A-EA87-4812-9C49-D258660E1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6131-3454-4B8D-9550-E2DFFC4E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33D-9BC7-43FB-A739-B1769FC1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039A-5753-4708-A639-75260F76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8160" cy="113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4E86AA4-CDE5-46EA-BA26-47EAE18AE3B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880"/>
            <a:ext cx="7621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348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8FBE92-46A3-4FD4-B3F1-0FC71058196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1523880"/>
            <a:ext cx="71625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Interoperability, Mutual Marketing and a Common Approa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rcRect l="22780" t="16889" r="23890" b="27999"/>
          <a:stretch/>
        </p:blipFill>
        <p:spPr>
          <a:xfrm>
            <a:off x="990720" y="914400"/>
            <a:ext cx="7315200" cy="47242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6920" y="380880"/>
            <a:ext cx="783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ttp://www.workingincanada.gc.ca/welcome.do?template=ontario&amp;lang=e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rcRect l="16669" t="17779" r="40557" b="10220"/>
          <a:stretch/>
        </p:blipFill>
        <p:spPr>
          <a:xfrm>
            <a:off x="0" y="685800"/>
            <a:ext cx="5867280" cy="6172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19443" t="31111" r="58890" b="14667"/>
          <a:stretch/>
        </p:blipFill>
        <p:spPr>
          <a:xfrm>
            <a:off x="5791320" y="1981080"/>
            <a:ext cx="2971800" cy="464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rcRect l="0" t="0" r="71137" b="2444"/>
          <a:stretch/>
        </p:blipFill>
        <p:spPr>
          <a:xfrm>
            <a:off x="6248520" y="1295280"/>
            <a:ext cx="1828800" cy="7621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 flipV="1">
            <a:off x="1752480" y="2513160"/>
            <a:ext cx="4114800" cy="244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2133720" y="5103720"/>
            <a:ext cx="3809880" cy="11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1522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el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2780" t="0" r="23334" b="5778"/>
          <a:stretch/>
        </p:blipFill>
        <p:spPr>
          <a:xfrm>
            <a:off x="1447920" y="0"/>
            <a:ext cx="62751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21667" t="17779" r="23890" b="4447"/>
          <a:stretch/>
        </p:blipFill>
        <p:spPr>
          <a:xfrm>
            <a:off x="685800" y="38160"/>
            <a:ext cx="7467480" cy="666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6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21667" t="14988" r="22780" b="5387"/>
          <a:stretch/>
        </p:blipFill>
        <p:spPr>
          <a:xfrm>
            <a:off x="609480" y="228600"/>
            <a:ext cx="7620120" cy="6477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8T14:56:00Z</dcterms:created>
  <dc:creator>alejandra bravo</dc:creator>
  <dc:description/>
  <dc:language>en-US</dc:language>
  <cp:lastModifiedBy>marco</cp:lastModifiedBy>
  <dcterms:modified xsi:type="dcterms:W3CDTF">2010-11-02T13:26:43Z</dcterms:modified>
  <cp:revision>80</cp:revision>
  <dc:subject/>
  <dc:title>Slide 1</dc:title>
</cp:coreProperties>
</file>